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F6DA-0A9B-465E-A672-E6691C6AF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499A-85F6-4C37-B355-5A8A7629E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70D9-9D63-4401-B910-0DA20A5F9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E001-9121-484A-8B69-BA9679BFB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A01C-857D-4337-858A-EFBE178D8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5FB5-7AF1-4733-AE2C-B0E628FDC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98DD-8275-4011-8332-476B5A1A9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987A-0523-4C0F-8F11-C6189517A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F7C-3BAA-4512-9E19-D0300966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C7FC-39FB-49AE-AB1D-F7CF02D6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0B20-8EAB-4BE7-B26B-86821B5E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A679-30F1-41FF-8E93-942EA816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849B-90FF-4502-8A0E-82A70498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87DE-59C8-4AED-9700-75E69E31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702F-2571-4478-A4FF-80855106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C1E7-4FF2-41A4-8B8D-4F018E43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E66C-F509-4D6A-ACFE-8021B512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4DF5-2B7A-4459-BA45-913C8F76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9A94-01AC-46A6-946F-0F713841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F520-DE9B-4589-9F75-D32BF985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366B-AF7D-45A7-8B52-5C5A6E20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FB4B-0D9C-41DC-9786-DD128C2E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C075-15DC-4FEA-8BAB-56D77185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0633-C202-4B5B-9526-0F83C14D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3109-4822-46C4-8EE1-DFEF7C62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C47D-ABEC-4307-803E-4346193B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51F9-C562-4BB5-A578-4515EBC7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D4D4-F396-4624-95C0-D371F176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BE0-AAB8-4925-B2D2-98BA406A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A2F-3C0D-49A1-949D-C09FBFCA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4ED-0848-498A-873C-A20DB107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6E1-DFEC-47F2-9A40-6FA93544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D16E-8EE8-49E4-8DA3-D1258B777E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3959-EC76-4A0A-9CB6-60240E80BF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The Structure of Hydrospher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3:  Par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Structure of Hydrosphe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s—96.5% of water foun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 water—3.5% of water foun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 water distrib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ce:  1.762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ndwater:  1.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face Fresh Water:  0.01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mosphere and soil:  0.002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Understanding Where Your Water Is Located—Oceans and Ic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bodies of water hold the largest amount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s—the largest bodies of water on Earth (contain salt water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features house water as 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bergs:  a large piece of freshwater ice floating in open w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ciers:  any large mass of ice that moves slowly ove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permanent snow areas also “house” water as 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resh Water Locations—Surface Wat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a watershed and a river bas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terms describe land that drains into a river, stream or l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ver Basin:  the term used to describe an area that drains into a large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shed:  the term used to describe an area that drains into a smaller river or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resh Water Locations—River Basins and Watershed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river basins are made up of many interconnected watersh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Cape Fear and Neuse River Basins are made of many small watersh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ter in a watershed runs to the lowest point—a river, stream, lake, or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resh Water Locations—Rivers, Streams, and Lak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rge channel along which water is continually flowing down a slope—made of many streams that come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stre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channel along which water is continually flowing down a slope—made of small gu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l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ody of water of considerable size contained on a body of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8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resh Water Locations--Groundwat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ground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ter found in cracks and pores in sand, gravel and rocks below the earth’s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qui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rous rock layer underground that is a reservoir fo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ther Surface Wat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wet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ea where the water table is at, near or above the land surface long enough during the year to support adapted plant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types of wetla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mps, bogs, and mar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mp:  a wetland dominated by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gs:  a wetland dominated by peat m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es:  a wetland dominated by gr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0:21:52Z</dcterms:created>
  <dc:creator>jcameron</dc:creator>
  <dc:description/>
  <dc:language>en-US</dc:language>
  <cp:lastModifiedBy>jcameron</cp:lastModifiedBy>
  <dcterms:modified xsi:type="dcterms:W3CDTF">2013-05-01T17:16:40Z</dcterms:modified>
  <cp:revision>4</cp:revision>
  <dc:subject/>
  <dc:title>The Structure of Hydrosphere</dc:title>
</cp:coreProperties>
</file>